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7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7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146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77040" y="-360"/>
            <a:ext cx="1380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67160"/>
            <a:ext cx="210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379920" y="8842320"/>
            <a:ext cx="477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 u="sng">
                <a:solidFill>
                  <a:srgbClr val="000000"/>
                </a:solidFill>
                <a:uFillTx/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51FE-7A4E-4C6D-9A3F-50280D4A07F3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3112-EA67-4062-B250-3FBE9505AFE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103032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</a:rPr>
              <a:t>С Е М И Н А 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МОДЕЛИ ОБУЧ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НА БАЗЕ УЧЕБНО-МЕТОДИЧЕСКОГО КОМПЛЕКТА «ИНФОРМАТИКА и ИК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9"/>
                </a:solidFill>
                <a:latin typeface="Times New Roman"/>
              </a:rPr>
              <a:t>(БАЗОВЫЙ УРОВЕНЬ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676C-D23B-48A8-9B18-D528230B196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FFDC-EE6D-4BC5-8A84-0EECC1BE18D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4E64-7044-4301-A72B-44842267769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1F64-E718-4154-B964-0E13B56B75E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3FA6-A4B5-42E6-BE4F-DDE9D61D93F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Успешно справиться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BA2C-D060-4FC2-AFDC-0C3B20A6584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Модернизация програм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и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1B4D-07D1-4C5F-9B79-B93EE02820D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а непрерывного обучен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о дисциплине «Информатика и 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0D2C-2C87-4D34-A6B5-E43B8861848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сновные цели обу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B33E-C6BD-4495-A6A8-2BD0DB9D834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69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чебно-методический компле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Теория. 7-9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808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0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1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E80B-53CA-441F-BF54-F8727C993ED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0998-6871-49A5-8519-9F7362CBA94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040" y="4338360"/>
            <a:ext cx="1630440" cy="54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семин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рнизация программы и 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ли темат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основной шко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старшей школе – базовый урове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УЧЕБНО-МЕТОДИЧЕСКИЙ </a:t>
            </a:r>
            <a:br>
              <a:rPr sz="1200"/>
            </a:b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КОМПЛ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2138-D580-42C8-86B5-737FBCC0E39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тематиче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план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6348-C60F-400D-9ED2-CB5CDC02230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7B5B-D78D-4014-A1B9-0C58E999C54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чальный уровень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1A09-60A7-452F-B3EF-9B947767FC9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307C-6D49-4FFD-8C1C-1E152259230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2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я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, современное состояние и перспективы компьютерной техн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435B-A97F-41B9-AF19-88145EAB112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7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7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Практик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истемной среды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абличн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8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е в среде Л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F11D-286C-46C1-9AE1-B4A239441EF3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4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Требования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разовательного стандарта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"Информатика и ИКТ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для среднего (полно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A973-3B34-4ABF-B554-9BF16D3D809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6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ccff"/>
                </a:solidFill>
                <a:latin typeface="Times New Roman"/>
              </a:rPr>
              <a:t>(базовый уровень)</a:t>
            </a:r>
            <a:br>
              <a:rPr sz="1200"/>
            </a:b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электро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модел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3B87-FAC3-45EE-9386-D2C5B53100D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тодические пособ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уч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E8C7-C16B-4DBB-AC30-46489AC03FE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9476-01CD-44C9-A473-4BE58660F7A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571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е об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родолжени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основы процесс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системе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моде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программных средах: графическом редакторе, текстовом процессоре,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классификации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мод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B661-3B7C-4EDA-8F6B-8DAAB478296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80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й редакт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ов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програм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личн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ая характеристика прикладной сред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глобальной сет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16CF-0682-475C-A084-0213EDAA315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2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о пам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а ввода и вывода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микропроцессо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ирование информации в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ное обеспечение работы компьютерных с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CC69-32EF-4F2A-A6A2-2748FD5715A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EEC0-CB78-47E0-A1F7-9C2694D9C82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F716-DF26-48F0-8AB6-09A313F731F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283C-CE15-49E2-87C4-2E43A5F8D6E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68DC-544A-4F75-B068-4BCFC4E9AFD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06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14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3D57-F12A-4329-BA28-16EDF1FABBF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90DC-7A7A-4135-83DF-13FED9D199E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Компьютерное делопроизвод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ый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-12) – теоретические знания по основам дело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ой 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3-18) – практическое руководство по делопроизводству в электронном офи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6E07-407C-4EB2-875B-5DE438A5755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Модел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36B4-97B1-4EFB-9A79-CA7EF44D29F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Макарова Наталья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Владими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(812) 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571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-60-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C234-8BF2-407B-991E-22C540628D2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3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9729-D26E-4F90-A6B7-DF807573414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44C6-18DD-4B4B-B1D5-DC705FA503F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7401-2017-42AB-90FA-F81EBE4181E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нализ заданий ЕГЭ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оответствие требованиям стандар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 данным за 2004, 2005 год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AC49-B46A-43DB-AB23-B93C1E4CE3C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402-A7A0-4D4A-9986-E02D534D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313-25DF-4BB3-AE9C-D88C1449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564-2222-4F71-A3DB-614688B7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69A-497C-4F76-BB88-48258960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CBC-FEA3-4BFF-B64F-1A39519C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421-0E51-4FD5-A06E-5105CF04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61F-0832-4AC2-B6F8-089C62F2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BD9-A1CA-492C-843C-0DFECCF3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50D-3A78-4BEF-896D-CB3AF572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291-9FE4-4EDD-BD75-24F9F487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213-A51E-4528-B2F4-9E917618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7E8-DC87-4E22-A3EA-151ED9F4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3D09-DF89-42A1-8588-2D61BAF9D7F2}" type="slidenum"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" Target="slide4.xml"/><Relationship Id="rId7" Type="http://schemas.openxmlformats.org/officeDocument/2006/relationships/image" Target="../media/image11.png"/><Relationship Id="rId8" Type="http://schemas.openxmlformats.org/officeDocument/2006/relationships/slide" Target="slide5.xml"/><Relationship Id="rId9" Type="http://schemas.openxmlformats.org/officeDocument/2006/relationships/image" Target="../media/image12.png"/><Relationship Id="rId10" Type="http://schemas.openxmlformats.org/officeDocument/2006/relationships/slide" Target="slide6.xml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303120"/>
            <a:ext cx="9144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 Е М И Н А 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МОДЕЛИ ОБУЧЕНИЯ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НА БАЗЕ УЧЕБНО-МЕТОДИЧЕСКОГО КОМПЛЕКТА «ИНФОРМАТИКА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(БАЗОВЫЙ УРОВЕНЬ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4564080"/>
            <a:ext cx="86040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27160"/>
            <a:ext cx="8915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4205160"/>
            <a:ext cx="914400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едущие:</a:t>
            </a:r>
            <a:br>
              <a:rPr sz="2400"/>
            </a:b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талья  Владимировна   Макарова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- руководитель авторского коллектива </a:t>
            </a:r>
            <a:br>
              <a:rPr sz="18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офессор, доктор педагогических наук</a:t>
            </a: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лияна   Францевн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итова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-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член авторского коллектива    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         доцент,   кандидат педагогических наук</a:t>
            </a:r>
            <a:br>
              <a:rPr sz="2400"/>
            </a:b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Object 1027"/>
          <p:cNvGraphicFramePr/>
          <p:nvPr/>
        </p:nvGraphicFramePr>
        <p:xfrm>
          <a:off x="-1828800" y="993600"/>
          <a:ext cx="9043920" cy="522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993600"/>
                    <a:ext cx="9043920" cy="52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Object 0"/>
          <p:cNvGraphicFramePr/>
          <p:nvPr/>
        </p:nvGraphicFramePr>
        <p:xfrm>
          <a:off x="20520" y="1135080"/>
          <a:ext cx="512784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135080"/>
                    <a:ext cx="512784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240" y="1192320"/>
          <a:ext cx="5540400" cy="51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92320"/>
                    <a:ext cx="554040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Object 1027"/>
          <p:cNvGraphicFramePr/>
          <p:nvPr/>
        </p:nvGraphicFramePr>
        <p:xfrm>
          <a:off x="-390600" y="1227240"/>
          <a:ext cx="6059520" cy="58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0600" y="1227240"/>
                    <a:ext cx="605952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пешно справитьс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2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14400" y="1828800"/>
            <a:ext cx="7467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рнизация программы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и учебно-методического комплект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а непрерывного обучения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 дисциплине «Информатика и И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picture"/>
          <p:cNvPicPr/>
          <p:nvPr/>
        </p:nvPicPr>
        <p:blipFill>
          <a:blip r:embed="rId1"/>
          <a:stretch/>
        </p:blipFill>
        <p:spPr>
          <a:xfrm>
            <a:off x="2438280" y="2209680"/>
            <a:ext cx="3657600" cy="4496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ые ц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019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нформационной культуры шко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 которой определяют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990720" y="1295280"/>
            <a:ext cx="815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базовых знаний, отражающих вклад информатики в формирование        современной научной картины мира, роль информационных процессов в обществе и различных системах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и умения целенаправленной работы с информацией на основе системного подхода к анализу структуры объектов, создания и исследования информационных моделей;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я применять, анализировать, преобразовывать информационные модели реальных объектов и процессов на базе современных информационно-коммуникационных  технологий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4114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логического мышления, творческого и познавательного потенциала школьника, его коммуникативных способностей на базе современного компьютерного инструментария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опыта использования информационных технологий в индивидуальной и коллективной, в том числе проектной деятельности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Учебно-методический компле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05280" y="685440"/>
            <a:ext cx="9448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СНОВНАЯ ШКО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Теория. 7-9 клас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ТАРШАЯ ШКОЛА –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0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1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457200" y="3276720"/>
            <a:ext cx="0" cy="1447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57200" y="4724280"/>
            <a:ext cx="12952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57200" y="3276720"/>
            <a:ext cx="15228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2057400" y="228600"/>
            <a:ext cx="5029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одержание семинара</a:t>
            </a:r>
            <a:endParaRPr b="1" lang="en-US" sz="3200" spc="1" strike="noStrike">
              <a:ln w="936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9907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рнизация программы и  учебно-методического комплект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3657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ли тематического планирования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4572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основной школе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старшей школе – базовый уровень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5" descr="Методика 9 класс-1"/>
          <p:cNvPicPr/>
          <p:nvPr/>
        </p:nvPicPr>
        <p:blipFill>
          <a:blip r:embed="rId1"/>
          <a:stretch/>
        </p:blipFill>
        <p:spPr>
          <a:xfrm>
            <a:off x="7238880" y="3886200"/>
            <a:ext cx="173988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Методика 8 класс-1"/>
          <p:cNvPicPr/>
          <p:nvPr/>
        </p:nvPicPr>
        <p:blipFill>
          <a:blip r:embed="rId2"/>
          <a:stretch/>
        </p:blipFill>
        <p:spPr>
          <a:xfrm>
            <a:off x="6934320" y="1981080"/>
            <a:ext cx="1643040" cy="24717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ЧЕБНО-МЕТОДИЧЕСКИЙ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МПЛЕК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09480" y="914400"/>
            <a:ext cx="624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  <a:hlinkClick r:id="rId3" action="ppaction://hlinksldjump"/>
              </a:rPr>
              <a:t>ИНФОРМАТИКА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Rab-tetr5"/>
          <p:cNvPicPr/>
          <p:nvPr/>
        </p:nvPicPr>
        <p:blipFill>
          <a:blip r:embed="rId4"/>
          <a:stretch/>
        </p:blipFill>
        <p:spPr>
          <a:xfrm>
            <a:off x="2154240" y="176688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Rab-tetr6"/>
          <p:cNvPicPr/>
          <p:nvPr/>
        </p:nvPicPr>
        <p:blipFill>
          <a:blip r:embed="rId5"/>
          <a:stretch/>
        </p:blipFill>
        <p:spPr>
          <a:xfrm>
            <a:off x="4130640" y="176688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7-9teor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267080"/>
            <a:ext cx="1747800" cy="229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aktikum7-9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438280" y="4267080"/>
            <a:ext cx="1754280" cy="228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Zadachnik7-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648320" y="4267080"/>
            <a:ext cx="1739880" cy="226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Nach-kurs5-6"/>
          <p:cNvPicPr/>
          <p:nvPr/>
        </p:nvPicPr>
        <p:blipFill>
          <a:blip r:embed="rId12"/>
          <a:stretch/>
        </p:blipFill>
        <p:spPr>
          <a:xfrm>
            <a:off x="182520" y="1725480"/>
            <a:ext cx="1730520" cy="2252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Методика 7 класс-1"/>
          <p:cNvPicPr/>
          <p:nvPr/>
        </p:nvPicPr>
        <p:blipFill>
          <a:blip r:embed="rId13"/>
          <a:stretch/>
        </p:blipFill>
        <p:spPr>
          <a:xfrm>
            <a:off x="7315200" y="228600"/>
            <a:ext cx="1654200" cy="23414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2887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Picture 3" descr="10-11"/>
          <p:cNvPicPr/>
          <p:nvPr/>
        </p:nvPicPr>
        <p:blipFill>
          <a:blip r:embed="rId1"/>
          <a:stretch/>
        </p:blipFill>
        <p:spPr>
          <a:xfrm>
            <a:off x="533520" y="2209680"/>
            <a:ext cx="1800000" cy="23846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2438280" y="2895480"/>
            <a:ext cx="1578240" cy="936720"/>
          </a:xfrm>
          <a:prstGeom prst="rightArrow">
            <a:avLst>
              <a:gd name="adj1" fmla="val 50000"/>
              <a:gd name="adj2" fmla="val 4212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90920" y="380988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05-2006 г.г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0" descr="Практикум программ-10-11"/>
          <p:cNvPicPr/>
          <p:nvPr/>
        </p:nvPicPr>
        <p:blipFill>
          <a:blip r:embed="rId2"/>
          <a:stretch/>
        </p:blipFill>
        <p:spPr>
          <a:xfrm>
            <a:off x="5334120" y="1828800"/>
            <a:ext cx="3581280" cy="293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10 кл-обложка-2"/>
          <p:cNvPicPr/>
          <p:nvPr/>
        </p:nvPicPr>
        <p:blipFill>
          <a:blip r:embed="rId3"/>
          <a:stretch/>
        </p:blipFill>
        <p:spPr>
          <a:xfrm>
            <a:off x="4648320" y="838080"/>
            <a:ext cx="2017440" cy="2614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11-2"/>
          <p:cNvPicPr/>
          <p:nvPr/>
        </p:nvPicPr>
        <p:blipFill>
          <a:blip r:embed="rId4"/>
          <a:stretch/>
        </p:blipFill>
        <p:spPr>
          <a:xfrm>
            <a:off x="4724280" y="3809880"/>
            <a:ext cx="194940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6"/>
          <p:cNvSpPr/>
          <p:nvPr/>
        </p:nvSpPr>
        <p:spPr>
          <a:xfrm>
            <a:off x="3124080" y="1447920"/>
            <a:ext cx="2971800" cy="49528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О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тектура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о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еш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иферийные устройств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027"/>
          <p:cNvSpPr/>
          <p:nvPr/>
        </p:nvSpPr>
        <p:spPr>
          <a:xfrm>
            <a:off x="0" y="1447920"/>
            <a:ext cx="3048120" cy="510516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А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й процесс                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ая 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028"/>
          <p:cNvSpPr/>
          <p:nvPr/>
        </p:nvSpPr>
        <p:spPr>
          <a:xfrm>
            <a:off x="6134040" y="1447920"/>
            <a:ext cx="3009960" cy="4957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йл, папк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струментарий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клад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доку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дак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029"/>
          <p:cNvSpPr/>
          <p:nvPr/>
        </p:nvSpPr>
        <p:spPr>
          <a:xfrm>
            <a:off x="457200" y="228600"/>
            <a:ext cx="8458200" cy="6094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ТИКА и  ИК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1030"/>
          <p:cNvGrpSpPr/>
          <p:nvPr/>
        </p:nvGrpSpPr>
        <p:grpSpPr>
          <a:xfrm>
            <a:off x="1219320" y="838080"/>
            <a:ext cx="6994440" cy="614160"/>
            <a:chOff x="1219320" y="838080"/>
            <a:chExt cx="6994440" cy="614160"/>
          </a:xfrm>
        </p:grpSpPr>
        <p:sp>
          <p:nvSpPr>
            <p:cNvPr id="149" name="Line 1031"/>
            <p:cNvSpPr/>
            <p:nvPr/>
          </p:nvSpPr>
          <p:spPr>
            <a:xfrm>
              <a:off x="1219320" y="1150200"/>
              <a:ext cx="699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1032"/>
            <p:cNvSpPr/>
            <p:nvPr/>
          </p:nvSpPr>
          <p:spPr>
            <a:xfrm>
              <a:off x="44946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1033"/>
            <p:cNvSpPr/>
            <p:nvPr/>
          </p:nvSpPr>
          <p:spPr>
            <a:xfrm>
              <a:off x="122868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1034"/>
            <p:cNvSpPr/>
            <p:nvPr/>
          </p:nvSpPr>
          <p:spPr>
            <a:xfrm>
              <a:off x="82044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1035"/>
            <p:cNvSpPr/>
            <p:nvPr/>
          </p:nvSpPr>
          <p:spPr>
            <a:xfrm>
              <a:off x="4494600" y="83808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" name="Text Box 1036"/>
          <p:cNvSpPr/>
          <p:nvPr/>
        </p:nvSpPr>
        <p:spPr>
          <a:xfrm>
            <a:off x="5321160" y="57625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037"/>
          <p:cNvSpPr/>
          <p:nvPr/>
        </p:nvSpPr>
        <p:spPr>
          <a:xfrm>
            <a:off x="6477120" y="289548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038"/>
          <p:cNvSpPr/>
          <p:nvPr/>
        </p:nvSpPr>
        <p:spPr>
          <a:xfrm>
            <a:off x="222120" y="281952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1039"/>
          <p:cNvSpPr/>
          <p:nvPr/>
        </p:nvSpPr>
        <p:spPr>
          <a:xfrm>
            <a:off x="3352680" y="285264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1295280" y="1828800"/>
            <a:ext cx="6324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ли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ематического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планирования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3"/>
          <p:cNvSpPr txBox="1"/>
          <p:nvPr/>
        </p:nvSpPr>
        <p:spPr>
          <a:xfrm>
            <a:off x="762120" y="18288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Начальный уровень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Rab-tetr5"/>
          <p:cNvPicPr/>
          <p:nvPr/>
        </p:nvPicPr>
        <p:blipFill>
          <a:blip r:embed="rId1"/>
          <a:stretch/>
        </p:blipFill>
        <p:spPr>
          <a:xfrm rot="19123800">
            <a:off x="533160" y="434304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Rab-tetr6"/>
          <p:cNvPicPr/>
          <p:nvPr/>
        </p:nvPicPr>
        <p:blipFill>
          <a:blip r:embed="rId2"/>
          <a:stretch/>
        </p:blipFill>
        <p:spPr>
          <a:xfrm rot="1770600">
            <a:off x="2895120" y="434304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Nach-kurs5-6"/>
          <p:cNvPicPr/>
          <p:nvPr/>
        </p:nvPicPr>
        <p:blipFill>
          <a:blip r:embed="rId3"/>
          <a:stretch/>
        </p:blipFill>
        <p:spPr>
          <a:xfrm>
            <a:off x="6553080" y="4267080"/>
            <a:ext cx="1730520" cy="22528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914400" y="152280"/>
            <a:ext cx="7620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</a:t>
            </a:r>
            <a:endParaRPr b="1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533520" y="1219320"/>
            <a:ext cx="754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начальный уровень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1828800"/>
          <a:ext cx="8382240" cy="1757520"/>
        </p:xfrm>
        <a:graphic>
          <a:graphicData uri="http://schemas.openxmlformats.org/drawingml/2006/table">
            <a:tbl>
              <a:tblPr/>
              <a:tblGrid>
                <a:gridCol w="1909800"/>
                <a:gridCol w="6472440"/>
              </a:tblGrid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мся работать на компьютер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графи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 программирования ЛогоМир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WordArt 24"/>
          <p:cNvSpPr txBox="1"/>
          <p:nvPr/>
        </p:nvSpPr>
        <p:spPr>
          <a:xfrm>
            <a:off x="838080" y="3733920"/>
            <a:ext cx="4267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бочие тетради</a:t>
            </a:r>
            <a:endParaRPr b="1" lang="en-US" sz="2800" spc="1" strike="noStrike">
              <a:ln w="0">
                <a:noFill/>
              </a:ln>
              <a:blipFill rotWithShape="0">
                <a:blip r:embed="rId7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25"/>
          <p:cNvSpPr txBox="1"/>
          <p:nvPr/>
        </p:nvSpPr>
        <p:spPr>
          <a:xfrm>
            <a:off x="5791320" y="3809880"/>
            <a:ext cx="304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92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8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чебник</a:t>
            </a:r>
            <a:endParaRPr b="1" lang="en-US" sz="2800" spc="1" strike="noStrike">
              <a:ln w="0">
                <a:noFill/>
              </a:ln>
              <a:blipFill rotWithShape="0">
                <a:blip r:embed="rId9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Начальный уровень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530280"/>
          <a:ext cx="8763120" cy="5965920"/>
        </p:xfrm>
        <a:graphic>
          <a:graphicData uri="http://schemas.openxmlformats.org/drawingml/2006/table">
            <a:tbl>
              <a:tblPr/>
              <a:tblGrid>
                <a:gridCol w="542880"/>
                <a:gridCol w="5427720"/>
                <a:gridCol w="932040"/>
                <a:gridCol w="1022400"/>
                <a:gridCol w="838080"/>
              </a:tblGrid>
              <a:tr h="425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учение работе на компьютер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ow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Блокнот, Калькулятор, составной документ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ьютерная графика как средство развития творческого потенциала (алгоритм, точное построение графических объектов, конструирование из мозаики, моделирование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а программирования Лого Миры как средство развития алгоритмического и логического мыш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762120" y="1828800"/>
            <a:ext cx="7467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сновн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7-9teo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2880" y="990720"/>
            <a:ext cx="1917720" cy="25146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3"/>
          <p:cNvSpPr txBox="1"/>
          <p:nvPr/>
        </p:nvSpPr>
        <p:spPr>
          <a:xfrm>
            <a:off x="457200" y="22860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0880" y="3429000"/>
          <a:ext cx="8452080" cy="3211560"/>
        </p:xfrm>
        <a:graphic>
          <a:graphicData uri="http://schemas.openxmlformats.org/drawingml/2006/table">
            <a:tbl>
              <a:tblPr/>
              <a:tblGrid>
                <a:gridCol w="1822680"/>
                <a:gridCol w="66294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я. Информационные процесс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картина ми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я, современное состояние и перспективы компьютерной техники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Теор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914400" y="1371600"/>
            <a:ext cx="39625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Практику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380880" y="0"/>
            <a:ext cx="795816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2590920"/>
          <a:ext cx="8404200" cy="4078080"/>
        </p:xfrm>
        <a:graphic>
          <a:graphicData uri="http://schemas.openxmlformats.org/drawingml/2006/table">
            <a:tbl>
              <a:tblPr/>
              <a:tblGrid>
                <a:gridCol w="1566720"/>
                <a:gridCol w="6837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истемной среды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абличн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УБ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6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ции в Интерн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7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8.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ирование в среде ЛО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алгоритмиз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Picture 41" descr="практикум 7-9"/>
          <p:cNvPicPr/>
          <p:nvPr/>
        </p:nvPicPr>
        <p:blipFill>
          <a:blip r:embed="rId4"/>
          <a:stretch/>
        </p:blipFill>
        <p:spPr>
          <a:xfrm>
            <a:off x="7010280" y="990720"/>
            <a:ext cx="1781280" cy="2152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027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WordArt 1028"/>
          <p:cNvSpPr txBox="1"/>
          <p:nvPr/>
        </p:nvSpPr>
        <p:spPr>
          <a:xfrm>
            <a:off x="1066680" y="1752480"/>
            <a:ext cx="7086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ребования государственного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разовательного стандарта   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"Информатика и ИКТ"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для среднего (полного)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щего образования и ЕГЭ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457200" y="22860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9-11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144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базовый уровень)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-228600" y="5873760"/>
            <a:ext cx="937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04640" y="2489040"/>
          <a:ext cx="8224920" cy="3743640"/>
        </p:xfrm>
        <a:graphic>
          <a:graphicData uri="http://schemas.openxmlformats.org/drawingml/2006/table">
            <a:tbl>
              <a:tblPr/>
              <a:tblGrid>
                <a:gridCol w="1903680"/>
                <a:gridCol w="6321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электро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ца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ые модели в базах да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219320" y="533520"/>
            <a:ext cx="6748200" cy="22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тодические пособия 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ля учителей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3" descr="Методика 7 класс-1"/>
          <p:cNvPicPr/>
          <p:nvPr/>
        </p:nvPicPr>
        <p:blipFill>
          <a:blip r:embed="rId5"/>
          <a:stretch/>
        </p:blipFill>
        <p:spPr>
          <a:xfrm>
            <a:off x="1393920" y="3475080"/>
            <a:ext cx="1854000" cy="2624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Методика 8 класс-1"/>
          <p:cNvPicPr/>
          <p:nvPr/>
        </p:nvPicPr>
        <p:blipFill>
          <a:blip r:embed="rId6"/>
          <a:stretch/>
        </p:blipFill>
        <p:spPr>
          <a:xfrm>
            <a:off x="3795840" y="3427560"/>
            <a:ext cx="1841400" cy="2770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Методика 9 класс-1"/>
          <p:cNvPicPr/>
          <p:nvPr/>
        </p:nvPicPr>
        <p:blipFill>
          <a:blip r:embed="rId7"/>
          <a:stretch/>
        </p:blipFill>
        <p:spPr>
          <a:xfrm>
            <a:off x="6172200" y="3429000"/>
            <a:ext cx="1949400" cy="2817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54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116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23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Информационная картина мира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380880"/>
            <a:ext cx="9829800" cy="70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нятие об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деятельность человек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процессы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родолжение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основы процессов управл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системе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этапы моделирова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елирование в программных средах: графическом редакторе, текстовом процессоре, базах данных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классификации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модел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793800"/>
            <a:ext cx="876312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фический редакт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i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кстов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программ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абличн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c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ая характеристика прикладной среды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ммуникации в глобальной сети Интерн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программ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управления базой данных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1143000"/>
            <a:ext cx="914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о памят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а ввода и вывода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микропроцессо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заимодействие устройств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дирование информации в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тория развит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ппаратное обеспечение работы компьютерных сет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огические основы построения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32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81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15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762120" y="18288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Старш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Старшая школа – базовый уровен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6" name="Picture 10" descr="Практикум программ-10-11"/>
          <p:cNvPicPr/>
          <p:nvPr/>
        </p:nvPicPr>
        <p:blipFill>
          <a:blip r:embed="rId1"/>
          <a:stretch/>
        </p:blipFill>
        <p:spPr>
          <a:xfrm>
            <a:off x="4724280" y="3270240"/>
            <a:ext cx="4267440" cy="3282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10 кл-обложка-2"/>
          <p:cNvPicPr/>
          <p:nvPr/>
        </p:nvPicPr>
        <p:blipFill>
          <a:blip r:embed="rId2"/>
          <a:stretch/>
        </p:blipFill>
        <p:spPr>
          <a:xfrm>
            <a:off x="457200" y="990720"/>
            <a:ext cx="2881440" cy="3733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11-2"/>
          <p:cNvPicPr/>
          <p:nvPr/>
        </p:nvPicPr>
        <p:blipFill>
          <a:blip r:embed="rId3"/>
          <a:stretch/>
        </p:blipFill>
        <p:spPr>
          <a:xfrm>
            <a:off x="3429000" y="2362320"/>
            <a:ext cx="2666880" cy="35049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457200"/>
          <a:ext cx="9144000" cy="629604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процессы, модели, объек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боты  с объектами текстового докумен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о-коммуникационные              технологии в компьютерной се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представле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ния информации в виде презентац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обработк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данных в среде табличного процессо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зработки проек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6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2/4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24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7200" y="5867280"/>
            <a:ext cx="8458200" cy="398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5400000"/>
          </a:gra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ЦЕНТРИЧЕСКИЙ ПРИНЦИП ОБУЧ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457200"/>
          <a:ext cx="9144000" cy="603108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социальной информати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системы и технолог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автоматизированной обработки текстовых документ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хранения данны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Подготовка к экзамена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0/5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Компьютерное делопроизводство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505320" y="1981080"/>
            <a:ext cx="51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ервый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-12) – теоретические знания по основам делопроизводс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200400" y="388620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Второй 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3-18) – практическое руководство по делопроизводству в электронном офис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8" descr="picture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4398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д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066680"/>
          <a:ext cx="8839080" cy="5168880"/>
        </p:xfrm>
        <a:graphic>
          <a:graphicData uri="http://schemas.openxmlformats.org/drawingml/2006/table">
            <a:tbl>
              <a:tblPr/>
              <a:tblGrid>
                <a:gridCol w="2111400"/>
                <a:gridCol w="477720"/>
                <a:gridCol w="614520"/>
                <a:gridCol w="473040"/>
                <a:gridCol w="703080"/>
                <a:gridCol w="704880"/>
                <a:gridCol w="703440"/>
                <a:gridCol w="704880"/>
                <a:gridCol w="703080"/>
                <a:gridCol w="625680"/>
                <a:gridCol w="101736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 + Лого (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стандарт (10-1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стандарту 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овый уровен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+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3" name="Line 592"/>
          <p:cNvSpPr/>
          <p:nvPr/>
        </p:nvSpPr>
        <p:spPr>
          <a:xfrm>
            <a:off x="1143000" y="464832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684360" y="162864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Макарова Наталья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Владимировн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(812) 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571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-60-44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8459640" y="6291360"/>
            <a:ext cx="684360" cy="566640"/>
          </a:xfrm>
          <a:custGeom>
            <a:avLst/>
            <a:gdLst>
              <a:gd name="textAreaLeft" fmla="*/ 36720 w 684360"/>
              <a:gd name="textAreaRight" fmla="*/ 647640 w 68436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6085" h="21600">
                <a:moveTo>
                  <a:pt x="0" y="0"/>
                </a:moveTo>
                <a:lnTo>
                  <a:pt x="26085" y="0"/>
                </a:lnTo>
                <a:lnTo>
                  <a:pt x="26085" y="21600"/>
                </a:lnTo>
                <a:lnTo>
                  <a:pt x="0" y="21600"/>
                </a:lnTo>
                <a:close/>
              </a:path>
              <a:path fill="lightenLess" w="26085" h="21600">
                <a:moveTo>
                  <a:pt x="0" y="0"/>
                </a:moveTo>
                <a:lnTo>
                  <a:pt x="26085" y="0"/>
                </a:lnTo>
                <a:lnTo>
                  <a:pt x="24685" y="1400"/>
                </a:lnTo>
                <a:lnTo>
                  <a:pt x="1400" y="1400"/>
                </a:lnTo>
                <a:close/>
              </a:path>
              <a:path fill="darken" w="26085" h="21600">
                <a:moveTo>
                  <a:pt x="26085" y="0"/>
                </a:moveTo>
                <a:lnTo>
                  <a:pt x="26085" y="21600"/>
                </a:lnTo>
                <a:lnTo>
                  <a:pt x="24685" y="20200"/>
                </a:lnTo>
                <a:lnTo>
                  <a:pt x="24685" y="1400"/>
                </a:lnTo>
                <a:close/>
              </a:path>
              <a:path fill="darkenLess" w="26085" h="21600">
                <a:moveTo>
                  <a:pt x="26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5" y="20200"/>
                </a:lnTo>
                <a:close/>
              </a:path>
              <a:path fill="lighten" w="26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5" h="21600">
                <a:moveTo>
                  <a:pt x="6036" y="7493"/>
                </a:moveTo>
                <a:lnTo>
                  <a:pt x="9543" y="7493"/>
                </a:lnTo>
                <a:lnTo>
                  <a:pt x="9543" y="12828"/>
                </a:lnTo>
                <a:cubicBezTo>
                  <a:pt x="9543" y="13751"/>
                  <a:pt x="10344" y="14482"/>
                  <a:pt x="11380" y="14482"/>
                </a:cubicBezTo>
                <a:lnTo>
                  <a:pt x="13042" y="14482"/>
                </a:lnTo>
                <a:cubicBezTo>
                  <a:pt x="14078" y="14482"/>
                  <a:pt x="14879" y="13751"/>
                  <a:pt x="14879" y="12828"/>
                </a:cubicBezTo>
                <a:lnTo>
                  <a:pt x="14879" y="7493"/>
                </a:lnTo>
                <a:lnTo>
                  <a:pt x="13042" y="7493"/>
                </a:lnTo>
                <a:lnTo>
                  <a:pt x="16550" y="3985"/>
                </a:lnTo>
                <a:lnTo>
                  <a:pt x="20223" y="7493"/>
                </a:lnTo>
                <a:lnTo>
                  <a:pt x="18386" y="7493"/>
                </a:lnTo>
                <a:lnTo>
                  <a:pt x="18386" y="12828"/>
                </a:lnTo>
                <a:cubicBezTo>
                  <a:pt x="18386" y="15596"/>
                  <a:pt x="15810" y="18155"/>
                  <a:pt x="13042" y="18155"/>
                </a:cubicBezTo>
                <a:lnTo>
                  <a:pt x="11380" y="18155"/>
                </a:lnTo>
                <a:cubicBezTo>
                  <a:pt x="8612" y="18155"/>
                  <a:pt x="6036" y="15596"/>
                  <a:pt x="6036" y="12828"/>
                </a:cubicBez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28600" y="1447920"/>
            <a:ext cx="8229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609480"/>
            <a:ext cx="891540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57200" y="1371600"/>
            <a:ext cx="868680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28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нализ заданий ЕГЭ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на соответствие требованиям стандарта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(по данным за 2004, 2005 годы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6954840"/>
        </p:xfrm>
        <a:graphic>
          <a:graphicData uri="http://schemas.openxmlformats.org/drawingml/2006/table">
            <a:tbl>
              <a:tblPr/>
              <a:tblGrid>
                <a:gridCol w="4664160"/>
                <a:gridCol w="1297080"/>
                <a:gridCol w="973080"/>
                <a:gridCol w="1236600"/>
                <a:gridCol w="9730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Элементы содержания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проверяемые заданиями ЕГ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нформация и ее код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Алгоритмизация и программ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ы логик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Моделирование и компьютерный эксп-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Социальная информати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ные устрой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Программные сред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текстовой информац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р-ки граф-й и зву-й ин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инф в электр-х та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хранения, поиска и сортировки информации в базах данны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лекоммуникационные технолог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0:50:39Z</dcterms:created>
  <dc:creator>MNV</dc:creator>
  <dc:description/>
  <dc:language>en-US</dc:language>
  <cp:lastModifiedBy>LEGION</cp:lastModifiedBy>
  <dcterms:modified xsi:type="dcterms:W3CDTF">2015-04-01T07:31:47Z</dcterms:modified>
  <cp:revision>348</cp:revision>
  <dc:subject/>
  <dc:title>Презентация PowerPoint</dc:title>
</cp:coreProperties>
</file>